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16B-C3EE-4D3E-8AB8-723C1534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C08-D213-4285-892B-3B2DE071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DBA-05CE-4162-ADE8-DB64CC7A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B3F-21E0-4EFA-ADC3-BDD74A81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1C6A-D573-4F34-B439-D225D165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A2F4-2247-4B11-B16B-EACB8A11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3210-8E34-4F6E-AEB2-1E2B646D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DE9D-0D57-4F2F-A64D-AF3DDB3C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49AA-223D-4A6D-BF4C-A3F09405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1016-1FE5-42D2-8C85-01991ED2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2107-A82C-4F13-BF22-C80FBEEF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CA0-2D89-4FFD-ACFC-E0FC668B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7DE9-F567-4844-812E-21E4A69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9AE4-7302-4EF9-AD54-AC20C38E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71E9-D27A-4613-967D-6702A397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D3E6-AC71-44A9-9F05-54DDBC36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7436-8A90-4FA3-97A2-830B4EF5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331-5C7F-4CD9-AF47-B2B1D8AD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D17-FF4B-42B4-ACBD-CFFA7DA9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889-4405-402E-BE7A-31430E44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C4E-550F-4986-8D7E-A1CC698E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EB4-A5E0-4756-9C11-D60F3480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B81-A715-46BD-B427-6F48535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2A9-214B-41BA-8AC8-0CA02125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026"/>
          <p:cNvSpPr/>
          <p:nvPr/>
        </p:nvSpPr>
        <p:spPr>
          <a:xfrm>
            <a:off x="-23760" y="1763640"/>
            <a:ext cx="6899400" cy="17136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1027"/>
          <p:cNvSpPr/>
          <p:nvPr/>
        </p:nvSpPr>
        <p:spPr>
          <a:xfrm>
            <a:off x="198360" y="152280"/>
            <a:ext cx="716040" cy="6400800"/>
          </a:xfrm>
          <a:custGeom>
            <a:avLst/>
            <a:gdLst>
              <a:gd name="textAreaLeft" fmla="*/ 0 w 716040"/>
              <a:gd name="textAreaRight" fmla="*/ 716400 w 71604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324000" y="1157400"/>
            <a:ext cx="152280" cy="914400"/>
          </a:xfrm>
          <a:custGeom>
            <a:avLst/>
            <a:gdLst>
              <a:gd name="textAreaLeft" fmla="*/ 0 w 152280"/>
              <a:gd name="textAreaRight" fmla="*/ 152640 w 152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86A1-3697-40A7-A9F5-BED2A996D1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Freeform 3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360 h 8564400"/>
                <a:gd name="textAreaBottom" fmla="*/ 8565120 h 8564400"/>
              </a:gdLst>
              <a:ahLst/>
              <a:rect l="textAreaLeft" t="textAreaTop" r="textAreaRight" b="textAreaBottom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" name="Group 4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Group 5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Freeform 6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>
                    <a:gd name="textAreaLeft" fmla="*/ 0 w 1123200"/>
                    <a:gd name="textAreaRight" fmla="*/ 1123560 w 1123200"/>
                    <a:gd name="textAreaTop" fmla="*/ 0 h 272520"/>
                    <a:gd name="textAreaBottom" fmla="*/ 272880 h 272520"/>
                  </a:gdLst>
                  <a:ahLst/>
                  <a:rect l="textAreaLeft" t="textAreaTop" r="textAreaRight" b="textAreaBottom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7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>
                    <a:gd name="textAreaLeft" fmla="*/ 0 w 1216800"/>
                    <a:gd name="textAreaRight" fmla="*/ 1217160 w 1216800"/>
                    <a:gd name="textAreaTop" fmla="*/ 0 h 348840"/>
                    <a:gd name="textAreaBottom" fmla="*/ 349200 h 348840"/>
                  </a:gdLst>
                  <a:ahLst/>
                  <a:rect l="textAreaLeft" t="textAreaTop" r="textAreaRight" b="textAreaBottom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" name="Freeform 8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" name="Freeform 9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>
                  <a:gd name="textAreaLeft" fmla="*/ 0 w 81360"/>
                  <a:gd name="textAreaRight" fmla="*/ 81360 w 813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>
                  <a:gd name="textAreaLeft" fmla="*/ 0 w 419760"/>
                  <a:gd name="textAreaRight" fmla="*/ 420120 w 41976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61B1-A589-4560-8756-C3BF575B37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63400"/>
            <a:ext cx="7772400" cy="225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8000"/>
                </a:solidFill>
                <a:latin typeface="Comic Sans MS"/>
              </a:rPr>
              <a:t>Хочу всё знать…</a:t>
            </a:r>
            <a:endParaRPr b="0" lang="en-US" sz="7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38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Comic Sans MS"/>
              </a:rPr>
              <a:t>О динозаврах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ворческий проект ученицы 1-б класс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СОШ №4 города Тулы                                         Кулямзиной Полин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уководитель;учитель начальных классов                      Климова Любовь Олегов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7920"/>
            <a:ext cx="7848720" cy="18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  <a:ea typeface="Arial Unicode MS"/>
              </a:rPr>
              <a:t>Жили ли динозавры постоянно на одном и том же мест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  <a:ea typeface="Arial"/>
              </a:rPr>
              <a:t>Некоторые травоядные динозавры, возможно, периодически мигрировали в поисках новых пастбищ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6" descr="C:\Users\Серж\Pictures\окр. мир\3243364_da0d6ac3.jpg"/>
          <p:cNvPicPr/>
          <p:nvPr/>
        </p:nvPicPr>
        <p:blipFill>
          <a:blip r:embed="rId2"/>
          <a:stretch/>
        </p:blipFill>
        <p:spPr>
          <a:xfrm>
            <a:off x="5029200" y="2235240"/>
            <a:ext cx="38098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7680" y="266760"/>
            <a:ext cx="85960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Диплод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4" descr="C:\Users\Серж\Pictures\окр. мир\090b6c751c005691350004a966352544.jpg"/>
          <p:cNvPicPr/>
          <p:nvPr/>
        </p:nvPicPr>
        <p:blipFill>
          <a:blip r:embed="rId1"/>
          <a:stretch/>
        </p:blipFill>
        <p:spPr>
          <a:xfrm>
            <a:off x="2286000" y="3809880"/>
            <a:ext cx="6095880" cy="30481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914400" y="21337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1b1c"/>
                </a:solidFill>
                <a:latin typeface="Tahoma"/>
                <a:ea typeface="Tahoma"/>
              </a:rPr>
              <a:t>Диплодок </a:t>
            </a:r>
            <a:r>
              <a:rPr b="0" lang="ru-RU" sz="2400" spc="-1" strike="noStrike">
                <a:solidFill>
                  <a:srgbClr val="211b1c"/>
                </a:solidFill>
                <a:latin typeface="Times New Roman"/>
                <a:ea typeface="Tahoma"/>
              </a:rPr>
              <a:t>–</a:t>
            </a:r>
            <a:r>
              <a:rPr b="0" lang="ru-RU" sz="2400" spc="-1" strike="noStrike">
                <a:solidFill>
                  <a:srgbClr val="211b1c"/>
                </a:solidFill>
                <a:latin typeface="Tahoma"/>
                <a:ea typeface="Tahoma"/>
              </a:rPr>
              <a:t> значит </a:t>
            </a:r>
            <a:r>
              <a:rPr b="0" lang="ru-RU" sz="2400" spc="-1" strike="noStrike">
                <a:solidFill>
                  <a:srgbClr val="211b1c"/>
                </a:solidFill>
                <a:latin typeface="Times New Roman"/>
                <a:ea typeface="Tahoma"/>
              </a:rPr>
              <a:t>«</a:t>
            </a:r>
            <a:r>
              <a:rPr b="0" lang="ru-RU" sz="2400" spc="-1" strike="noStrike">
                <a:solidFill>
                  <a:srgbClr val="211b1c"/>
                </a:solidFill>
                <a:latin typeface="Tahoma"/>
                <a:ea typeface="Tahoma"/>
              </a:rPr>
              <a:t>живая балка</a:t>
            </a:r>
            <a:r>
              <a:rPr b="0" lang="ru-RU" sz="2400" spc="-1" strike="noStrike">
                <a:solidFill>
                  <a:srgbClr val="211b1c"/>
                </a:solidFill>
                <a:latin typeface="Times New Roman"/>
                <a:ea typeface="Tahoma"/>
              </a:rPr>
              <a:t>»</a:t>
            </a:r>
            <a:r>
              <a:rPr b="0" lang="ru-RU" sz="2400" spc="-1" strike="noStrike">
                <a:solidFill>
                  <a:srgbClr val="211b1c"/>
                </a:solidFill>
                <a:latin typeface="Tahoma"/>
                <a:ea typeface="Tahoma"/>
              </a:rPr>
              <a:t>. Такое название динозавр получил из-за необычного строения некоторых хвостовых костей. Это самый большой динозавр, достигал 27 метров в длину и весил 10 тон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7680" y="243000"/>
            <a:ext cx="85960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Брахиозав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449532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1b1c"/>
                </a:solidFill>
                <a:latin typeface="Tahoma"/>
                <a:ea typeface="Tahoma"/>
              </a:rPr>
              <a:t>Брахиозавр - самый тяжеловесный и один из самых больших динозавров, живших на земле. В длину достигал 23 метров, весил же 50 тонн и более. Динозавр растительноядный, имел очень длинную и гибкую шею</a:t>
            </a:r>
            <a:r>
              <a:rPr b="0" lang="ru-RU" sz="2800" spc="-1" strike="noStrike">
                <a:solidFill>
                  <a:srgbClr val="211b1c"/>
                </a:solidFill>
                <a:latin typeface="Tahoma"/>
                <a:ea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4" descr="C:\Users\Серж\Pictures\окр. мир\d_31.jpg"/>
          <p:cNvPicPr/>
          <p:nvPr/>
        </p:nvPicPr>
        <p:blipFill>
          <a:blip r:embed="rId2"/>
          <a:stretch/>
        </p:blipFill>
        <p:spPr>
          <a:xfrm>
            <a:off x="1447920" y="1981080"/>
            <a:ext cx="6997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7680" y="569520"/>
            <a:ext cx="85960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Прокомпсогна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4" descr="C:\Users\Серж\Pictures\окр. мир\tyrannosaurus.jpg"/>
          <p:cNvPicPr/>
          <p:nvPr/>
        </p:nvPicPr>
        <p:blipFill>
          <a:blip r:embed="rId1"/>
          <a:stretch/>
        </p:blipFill>
        <p:spPr>
          <a:xfrm>
            <a:off x="1676520" y="4003560"/>
            <a:ext cx="6248160" cy="2854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1b1c"/>
                </a:solidFill>
                <a:latin typeface="Tahoma"/>
                <a:ea typeface="Tahoma"/>
              </a:rPr>
              <a:t>Это самые мелкие из найденных динозавров. Но обнаружили не целый скелет, а отдельные куски скелета. Это один из самых первых динозавров. Они были очень маленькими, до 90 см в длину и весили около 1 кг</a:t>
            </a:r>
            <a:r>
              <a:rPr b="0" lang="ru-RU" sz="2400" spc="-1" strike="noStrike">
                <a:solidFill>
                  <a:srgbClr val="211b1c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680" y="569520"/>
            <a:ext cx="85960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Аллозав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4343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11b1c"/>
                </a:solidFill>
                <a:latin typeface="Tahoma"/>
                <a:ea typeface="Tahoma"/>
              </a:rPr>
              <a:t>Аллозавры были настоящими гигантами, в длину достигал 11 метров и весил полторы тонны!  Интересно, что найдены останки были не все сразу, а по частям.</a:t>
            </a:r>
            <a:r>
              <a:rPr b="1" i="1" lang="ru-RU" sz="2400" spc="-1" strike="noStrike">
                <a:solidFill>
                  <a:srgbClr val="211b1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4" descr="C:\Users\Серж\Pictures\окр. мир\2358988.jpg"/>
          <p:cNvPicPr/>
          <p:nvPr/>
        </p:nvPicPr>
        <p:blipFill>
          <a:blip r:embed="rId2"/>
          <a:stretch/>
        </p:blipFill>
        <p:spPr>
          <a:xfrm>
            <a:off x="2133720" y="19810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7760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этом проекте отражена творческая деятельность  ученицы 1-б класса МОУСОШ №4 города Тул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Кулямзиной Поли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десь собраны ответы на самые распространённые вопросы о динозавр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6600"/>
                </a:solidFill>
                <a:latin typeface="Arial"/>
                <a:ea typeface="Arial Unicode MS"/>
              </a:rPr>
              <a:t>Когда жили динозавры?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нозавры жили только в мезозойскую эру, получившею название Века Рептилий. Мезозойская эра продолжалась с 228 до 64 миллионов лет назад. Ни одному человеку никогда не приходилось видеть динозавр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7" descr="C:\Users\Серж\Pictures\окр. мир\127.jpg"/>
          <p:cNvPicPr/>
          <p:nvPr/>
        </p:nvPicPr>
        <p:blipFill>
          <a:blip r:embed="rId2"/>
          <a:stretch/>
        </p:blipFill>
        <p:spPr>
          <a:xfrm>
            <a:off x="5867280" y="2111400"/>
            <a:ext cx="29718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6360"/>
            <a:ext cx="7924680" cy="192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 Unicode MS"/>
              </a:rPr>
              <a:t>Откуда произошли динозавр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я показали, что группа рептилий, обитавших на территории современной Аргентины около 230 миллионов лет назад, приобрела новую манеру передвигаться по суше.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  <a:ea typeface="Arial"/>
              </a:rPr>
              <a:t>Одна такая рептилия, названная лагозухом, возможно, явилась предком всех динозавр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C:\Users\Серж\Pictures\окр. мир\normal_am-Danny_Flynn_Dinosaurs.jpg"/>
          <p:cNvPicPr/>
          <p:nvPr/>
        </p:nvPicPr>
        <p:blipFill>
          <a:blip r:embed="rId2"/>
          <a:stretch/>
        </p:blipFill>
        <p:spPr>
          <a:xfrm>
            <a:off x="5586480" y="2133720"/>
            <a:ext cx="3557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8440"/>
            <a:ext cx="7543800" cy="19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 Unicode MS"/>
              </a:rPr>
              <a:t>Каким был самый первый динозавр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 рептилия, названная эораптором, жила на земле 228 миллионов лет назад. В длину она достигала чуть больше метра, то есть, судя по всему, была размером с большую соба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6" descr="C:\Users\Серж\Pictures\окр. мир\0_1efa7_483cfa2e_XL.jpg"/>
          <p:cNvPicPr/>
          <p:nvPr/>
        </p:nvPicPr>
        <p:blipFill>
          <a:blip r:embed="rId2"/>
          <a:stretch/>
        </p:blipFill>
        <p:spPr>
          <a:xfrm>
            <a:off x="5181480" y="2743200"/>
            <a:ext cx="3581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84872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 Unicode MS"/>
              </a:rPr>
              <a:t>Какой из динозавров был самым маленьки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16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зможно, самым маленьким динозавром был компсогнат. Взрослая особь имела в длину лишь 70см, и большая ее часть приходилась на очень длинный хвос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6" descr="C:\Users\Серж\Pictures\окр. мир\0_1ef9d_bffec3cf_XL.jpg"/>
          <p:cNvPicPr/>
          <p:nvPr/>
        </p:nvPicPr>
        <p:blipFill>
          <a:blip r:embed="rId2"/>
          <a:stretch/>
        </p:blipFill>
        <p:spPr>
          <a:xfrm>
            <a:off x="990720" y="251460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596080" cy="19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 Unicode MS"/>
              </a:rPr>
              <a:t>Какой из динозавров был самым больши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1680" y="2057040"/>
            <a:ext cx="3614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рупнейший из имеющихся в наличии полных скелетов принадлежит брахиозавру - 12м высотой, 23 длиной и прижизненным весом около 70 тонн. Самым длинным из известных нам динозавров был диплодок, чей скелет насчитывал в длину 27 метров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6" descr="C:\Users\Серж\Pictures\окр. мир\ecran_brachiosaurus.jpg"/>
          <p:cNvPicPr/>
          <p:nvPr/>
        </p:nvPicPr>
        <p:blipFill>
          <a:blip r:embed="rId2"/>
          <a:stretch/>
        </p:blipFill>
        <p:spPr>
          <a:xfrm>
            <a:off x="1066680" y="2077920"/>
            <a:ext cx="381024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6600"/>
                </a:solidFill>
                <a:latin typeface="Arial"/>
                <a:ea typeface="Arial Unicode MS"/>
              </a:rPr>
              <a:t>Какой была кожа динозавров?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  <a:ea typeface="Arial"/>
              </a:rPr>
              <a:t>Она была жесткой, сухой и водонепроницаемой и состояла из мелких круглых чешуек, у некоторых динозавров был панцир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6" descr="C:\Users\Серж\Pictures\окр. мир\dino015.jpg"/>
          <p:cNvPicPr/>
          <p:nvPr/>
        </p:nvPicPr>
        <p:blipFill>
          <a:blip r:embed="rId2"/>
          <a:stretch/>
        </p:blipFill>
        <p:spPr>
          <a:xfrm>
            <a:off x="4876920" y="2590920"/>
            <a:ext cx="40384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60"/>
            <a:ext cx="7986600" cy="192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 Unicode MS"/>
              </a:rPr>
              <a:t>Были ли у динозавров жилищ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  <a:ea typeface="Arial"/>
              </a:rPr>
              <a:t>Крупнейшие из динозавров, скорее всего, предпочитали отдыхать где-нибудь в излюбленном местечке на опушке леса или под утесом. Динозавры помельче, возможно, отыскивали более надежные убежища, недоступные для их враг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6" descr="C:\Users\Серж\Pictures\окр. мир\0_3c2_8406b5e1_XL.jpg"/>
          <p:cNvPicPr/>
          <p:nvPr/>
        </p:nvPicPr>
        <p:blipFill>
          <a:blip r:embed="rId2"/>
          <a:stretch/>
        </p:blipFill>
        <p:spPr>
          <a:xfrm>
            <a:off x="990720" y="213372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45:10Z</dcterms:created>
  <dc:creator>Серж</dc:creator>
  <dc:description/>
  <dc:language>en-US</dc:language>
  <cp:lastModifiedBy>Сергей</cp:lastModifiedBy>
  <dcterms:modified xsi:type="dcterms:W3CDTF">2010-12-16T18:34:08Z</dcterms:modified>
  <cp:revision>4</cp:revision>
  <dc:subject/>
  <dc:title>Хочу всё знать…</dc:title>
</cp:coreProperties>
</file>